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57.png" ContentType="image/png"/>
  <Override PartName="/ppt/media/image20.png" ContentType="image/png"/>
  <Override PartName="/ppt/media/image28.jpeg" ContentType="image/jpeg"/>
  <Override PartName="/ppt/media/image36.png" ContentType="image/png"/>
  <Override PartName="/ppt/media/image9.jpeg" ContentType="image/jpeg"/>
  <Override PartName="/ppt/media/image59.png" ContentType="image/png"/>
  <Override PartName="/ppt/media/image71.png" ContentType="image/png"/>
  <Override PartName="/ppt/media/image21.jpeg" ContentType="image/jpeg"/>
  <Override PartName="/ppt/media/image65.png" ContentType="image/png"/>
  <Override PartName="/ppt/media/image62.png" ContentType="image/png"/>
  <Override PartName="/ppt/media/image96.jpeg" ContentType="image/jpeg"/>
  <Override PartName="/ppt/media/image63.png" ContentType="image/png"/>
  <Override PartName="/ppt/media/image66.png" ContentType="image/png"/>
  <Override PartName="/ppt/media/image67.png" ContentType="image/png"/>
  <Override PartName="/ppt/media/image64.png" ContentType="image/png"/>
  <Override PartName="/ppt/media/image77.jpeg" ContentType="image/jpeg"/>
  <Override PartName="/ppt/media/image70.png" ContentType="image/png"/>
  <Override PartName="/ppt/media/image92.png" ContentType="image/png"/>
  <Override PartName="/ppt/media/image89.png" ContentType="image/png"/>
  <Override PartName="/ppt/media/image52.png" ContentType="image/png"/>
  <Override PartName="/ppt/media/image87.png" ContentType="image/png"/>
  <Override PartName="/ppt/media/image50.png" ContentType="image/png"/>
  <Override PartName="/ppt/media/image86.png" ContentType="image/png"/>
  <Override PartName="/ppt/media/image74.png" ContentType="image/png"/>
  <Override PartName="/ppt/media/image84.png" ContentType="image/png"/>
  <Override PartName="/ppt/media/image24.jpeg" ContentType="image/jpeg"/>
  <Override PartName="/ppt/media/image95.png" ContentType="image/png"/>
  <Override PartName="/ppt/media/image60.png" ContentType="image/png"/>
  <Override PartName="/ppt/media/image85.png" ContentType="image/png"/>
  <Override PartName="/ppt/media/image82.jpeg" ContentType="image/jpeg"/>
  <Override PartName="/ppt/media/image33.png" ContentType="image/png"/>
  <Override PartName="/ppt/media/image73.png" ContentType="image/png"/>
  <Override PartName="/ppt/media/image79.png" ContentType="image/png"/>
  <Override PartName="/ppt/media/image78.png" ContentType="image/png"/>
  <Override PartName="/ppt/media/image76.png" ContentType="image/png"/>
  <Override PartName="/ppt/media/image69.png" ContentType="image/png"/>
  <Override PartName="/ppt/media/image27.jpeg" ContentType="image/jpeg"/>
  <Override PartName="/ppt/media/image10.jpeg" ContentType="image/jpeg"/>
  <Override PartName="/ppt/media/image2.png" ContentType="image/png"/>
  <Override PartName="/ppt/media/image14.png" ContentType="image/png"/>
  <Override PartName="/ppt/media/image22.jpeg" ContentType="image/jpeg"/>
  <Override PartName="/ppt/media/image81.jpeg" ContentType="image/jpeg"/>
  <Override PartName="/ppt/media/image75.png" ContentType="image/png"/>
  <Override PartName="/ppt/media/image1.jpeg" ContentType="image/jpeg"/>
  <Override PartName="/ppt/media/image11.png" ContentType="image/png"/>
  <Override PartName="/ppt/media/image48.png" ContentType="image/png"/>
  <Override PartName="/ppt/media/image90.png" ContentType="image/png"/>
  <Override PartName="/ppt/media/image25.png" ContentType="image/png"/>
  <Override PartName="/ppt/media/image19.jpeg" ContentType="image/jpeg"/>
  <Override PartName="/ppt/media/image32.png" ContentType="image/png"/>
  <Override PartName="/ppt/media/image93.jpeg" ContentType="image/jpeg"/>
  <Override PartName="/ppt/media/image29.png" ContentType="image/png"/>
  <Override PartName="/ppt/media/image51.wmf" ContentType="image/x-wmf"/>
  <Override PartName="/ppt/media/image94.png" ContentType="image/png"/>
  <Override PartName="/ppt/media/image3.png" ContentType="image/png"/>
  <Override PartName="/ppt/media/image15.png" ContentType="image/png"/>
  <Override PartName="/ppt/media/image80.png" ContentType="image/png"/>
  <Override PartName="/ppt/media/image5.jpeg" ContentType="image/jpeg"/>
  <Override PartName="/ppt/media/image61.png" ContentType="image/png"/>
  <Override PartName="/ppt/media/image26.png" ContentType="image/png"/>
  <Override PartName="/ppt/media/image8.jpeg" ContentType="image/jpeg"/>
  <Override PartName="/ppt/media/image91.png" ContentType="image/png"/>
  <Override PartName="/ppt/media/image39.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2F016-E085-45EF-AB2D-68A31B12E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D42E81-E3B6-49CC-BB1C-FEFC710177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C9925-66AE-4FC1-BA94-CED2EC2A6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CA440-CD45-4339-8882-6F442E1D9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69919-53A4-46C7-BD14-70DE8030F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1A8DB-B9B6-4A93-88C0-04B6563C5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93ADE-BB2B-4E29-A286-8F884AD0F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4E417D-04A2-4555-AD7E-0B6400D099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C6F901-36B7-4BEF-9A1A-7239A6B82B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165C2-66A6-47F9-B32C-8E25020C91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595DD-8893-4362-8A59-7310731106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E363C-92D7-45BC-A0D8-CAA6AE08CA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295601-C6D3-47D1-A134-4AFF37139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99CEA-9C9E-4D4E-868A-28A5D84E3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5912C-D65B-418F-B787-F2B9E3782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78F16-770D-4053-B2E7-39DF17EA00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93879-A952-410A-BB2A-50C57F4B70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7C015-3C53-4385-BEE9-9211F77F8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BCF59-D8AE-47B5-8EF4-64C0CCE6C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5556B-36C3-47DF-9A07-F36C53069E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9B6093-B12B-4393-B901-ED5BF64F96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6F63C3-5702-43B4-AA00-64450856BC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AAAD4D-5985-4064-A0C9-AF620072C5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38925D-2EA3-40EE-883A-79FEE57E2F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067788-1B51-4E4F-B1F8-1AFFAEF8B1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88D553-1D84-48DA-BDAB-A9F4F7D8E3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BF0948-B767-4207-AC19-F22FAF4689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01ABFD-28F8-4572-BB75-620FC79EC9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39EC09-CBA7-4D08-AE62-2E9B61BDA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B8EC3-4F45-4D9A-8659-051837D98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E225A4-D805-41D9-89CD-E40DB43A9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C7F6F7-DDAE-4B30-81DC-04B6F3275E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7F0882-7AAE-4F76-B6B9-9FDA5939EB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C98976-336C-4822-8577-9E67C513D6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D9867F-D912-4BE2-BD82-6727E55FF6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31C5F8-FE13-4FC3-99F7-78716B0E82C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6AC5AC-956F-4C71-AFD7-F0B72D4F84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FF0A57-9C53-47A1-84BB-07D3B9BB8E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25604E-20F9-49B4-A74F-2CF98C2538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20367C-2FFE-424F-878C-4CAE44970B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95D4-FE53-42D1-80B0-8A310CA4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0910A7-CCA7-4E99-B0AD-27ACD9990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AE3801-A3E5-4C86-9A99-2278D6CADD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E1893B-C1A4-4F8D-A94F-90294B0314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112703-428D-4968-B98A-ED6A1B585F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066F47-3781-4766-8067-5B1F0076FB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F7880E-08D8-4054-AB30-2C5C536B00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AE34F4-5A5C-449E-8D54-C3218F1D99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392D3-E34F-49B6-81D7-3696A20FD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C119-37D2-4F79-B42D-59BBE72B4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4E7F-D550-4F19-9594-8C6E6B5F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8761-CCC6-4AF4-98F1-14072B37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DF41-5A84-43D8-ADC7-54C9944C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1FCA5-AF1B-4DB3-A6F9-887A21C0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5276-BC3C-4E6F-AFEC-BC18F7AD0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E75F8-7391-4FFE-AE56-6ACAE42D2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0311F-12B5-4E8B-927C-19AFF5BE8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C04A1-4019-44FA-9885-76D86BBD2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4BD80-8AA4-4843-B0F0-3D82AE4DA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C801F-A692-4DAF-963D-B34B9E6EF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C1D3E-A422-4AFD-B021-244BA6A2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EDCB4-E122-488D-91A3-837154AE7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566CB-E8A9-4660-AD5D-6C6ED3EB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DAB22-ED76-4E7D-B9C8-2E4955144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B707F-5AC7-46F1-993B-936CC741D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E4FD7-39CA-48C6-A62C-322DBC5D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04C23-70A6-40A2-8D70-C7BED3AC4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C038A-1893-4353-A693-ACC014346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6C8DB-8FF4-45F7-AE06-182FDC6F0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6E6E3-B757-434B-B5BC-EFBB3CC791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C8219-775B-4BD5-BC2D-84284C82C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91875F-6EE3-41EB-9C42-2819047DD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BA70E-9276-4AFB-8508-531878387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186F4-C59F-4D24-9B38-C8BAB247F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C0252-0DA6-41A5-880C-45C399D48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56648-6D31-4071-BDDC-973073C36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F322C-5A4F-4214-90FD-D27586F1B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34549-808B-4A5D-B089-8D9166D13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410B89-D768-4021-8EC1-7CB1D2394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48790F-5E43-487E-BC9A-3FB7553B39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6FB7EB-A536-497A-8769-7EAA743F7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0A87C-AFAB-42AD-B2B2-268E994D8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27EA81-5595-4108-A639-BA3A36675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630F3-6FD3-4BB7-AA70-2BC2BA3DB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0983F-27D2-494B-B49B-80B03F97F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95C1FE-2F71-4548-93AC-CCB7F05DF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AB8B1D-B58E-440F-9095-4E0C621311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B0314-9807-4607-9E94-D7203A790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D74CB-9807-4B49-A2CB-EA118AD8B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3EB03-DBF8-4586-9AF8-3D900438D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F4A567-EADD-4C9A-A790-6E7BA888B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24D4BB-EE2D-4FCD-ADA0-EA1B406440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F0074-31F0-45D2-9689-2D5C981D90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79A4A-220C-4E8C-A7F4-A50F15F16A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2FFF35-572F-4860-AD9A-2FD0A61C3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F68BC-1A1F-49EF-8839-27BF056A2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6662B-A156-4656-827A-10F34D4BF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5F3AD-760A-49C7-8CA9-2070082B9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49B8F-6FB0-4260-8D1B-80BE5B945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15AF5-A1F3-4BE3-98AC-CBF444BFA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023D0-B3A4-43F4-A421-C8E86F74D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9B410-906F-46B5-AD2F-F1AF1B413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11098-A8A6-400B-9D60-CDAB3C0B0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97096-B812-46FA-95CA-48F17C4C62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5DD1E-34D4-419A-8072-6233AF5DB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5D5F98-22B1-47C9-9216-F2CFA94705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3F728-9D94-489A-925B-F2F132095F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F8643-F772-4F09-8C15-7AE558E047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1F9B4-7EFB-4C38-B319-20A648CFF2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BED98A-1862-46ED-A959-EFB9079B8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DEE7B-D6F9-430D-A89C-E6526D2CD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86BAE-5007-4164-9701-188E3FF4F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0A30F-ED3D-4AB2-837E-E607FFE6E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EECE5-F73F-4467-A8CF-59CB94CA00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0DB2A-EBBC-45F9-9375-CBB0A13B6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649962-7C0C-4FC0-8FA9-D31B09D7AB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FB88D7-2239-4F57-B17D-33C4B79DB6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8082FE-326B-4753-916E-919CFC741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D8608-2016-4B76-B9C0-446A1BB7B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AE56AE-37A2-4CA1-AE60-C689531C1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A56DE-937B-4D69-8AF3-7B5B3F4C6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99CFD-DB85-43D5-9CEC-D6B10A136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2F61F-9A1F-4998-8BE1-C67E2FABB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BA0D5-200A-4742-8D00-4A35F628F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1C865-1743-45D7-89A7-55AF7A206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EF17E-70B0-4A0C-832D-C5B3D1714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8975E5-4C38-46A1-B9E7-0ABC2420DE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04C7B3-E2AF-4BD0-BBF4-B5155417D4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D58ABF-2A63-4677-8568-F6E11574EB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BBBD23-EEA4-4C33-A229-525A6570B6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7E146-2A1B-478B-A160-A9212EEDA4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2CAE0-DF86-4F56-B8AA-4021D86A51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20A3-2C92-440A-9926-0800F889AA0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0838-55AC-4013-AB5A-CAE201E4BE3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E80D-16FF-4389-85AA-C46C21A4A172}"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6F70-5A8D-45F8-BA5D-FE923827879F}"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CC54-7894-45CF-AFDD-318B71C732CB}"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6E6B-2E08-4F60-AC65-2F550F5BB9E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C321-12E4-4558-A0D3-5C1D497529B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8658-F97A-473D-AA49-FAEF62F8CED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4F15-4203-4230-8BE0-220608658C9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B467-AB77-4760-B972-AA10ECC5666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E847-0BF8-4C86-96CE-C1B3965409C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7.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slide" Target="slide38.xml"/><Relationship Id="rId15" Type="http://schemas.openxmlformats.org/officeDocument/2006/relationships/slide" Target="slide37.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image" Target="../media/image70.png"/><Relationship Id="rId24" Type="http://schemas.openxmlformats.org/officeDocument/2006/relationships/image" Target="../media/image71.png"/><Relationship Id="rId25" Type="http://schemas.openxmlformats.org/officeDocument/2006/relationships/image" Target="../media/image72.png"/><Relationship Id="rId26" Type="http://schemas.openxmlformats.org/officeDocument/2006/relationships/image" Target="../media/image73.png"/><Relationship Id="rId27" Type="http://schemas.openxmlformats.org/officeDocument/2006/relationships/image" Target="../media/image74.png"/><Relationship Id="rId28" Type="http://schemas.openxmlformats.org/officeDocument/2006/relationships/image" Target="../media/image75.png"/><Relationship Id="rId29"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80.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8.png"/><Relationship Id="rId3" Type="http://schemas.openxmlformats.org/officeDocument/2006/relationships/image" Target="../media/image82.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94.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jpeg"/><Relationship Id="rId3" Type="http://schemas.openxmlformats.org/officeDocument/2006/relationships/image" Target="../media/image67.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67.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67.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a:hlinkClick r:id="rId14"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a:hlinkClick r:id="rId15"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a:hlinkClick r:id="rId16"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a:hlinkClick r:id="rId17"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a:hlinkClick r:id="rId18"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a:hlinkClick r:id="rId19"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a:hlinkClick r:id="rId20"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a:hlinkClick r:id="rId21"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a:hlinkClick r:id="rId22"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23"/>
          <a:stretch/>
        </p:blipFill>
        <p:spPr>
          <a:xfrm>
            <a:off x="8089920" y="2457360"/>
            <a:ext cx="1041480" cy="419040"/>
          </a:xfrm>
          <a:prstGeom prst="rect">
            <a:avLst/>
          </a:prstGeom>
          <a:ln w="0">
            <a:noFill/>
          </a:ln>
        </p:spPr>
      </p:pic>
      <p:pic>
        <p:nvPicPr>
          <p:cNvPr id="771" name="101 Rectángulo" descr=""/>
          <p:cNvPicPr/>
          <p:nvPr/>
        </p:nvPicPr>
        <p:blipFill>
          <a:blip r:embed="rId24"/>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25"/>
          <a:stretch/>
        </p:blipFill>
        <p:spPr>
          <a:xfrm>
            <a:off x="8174160" y="4456080"/>
            <a:ext cx="1042920" cy="420840"/>
          </a:xfrm>
          <a:prstGeom prst="rect">
            <a:avLst/>
          </a:prstGeom>
          <a:ln w="0">
            <a:noFill/>
          </a:ln>
        </p:spPr>
      </p:pic>
      <p:pic>
        <p:nvPicPr>
          <p:cNvPr id="778" name="112 Rectángulo" descr=""/>
          <p:cNvPicPr/>
          <p:nvPr/>
        </p:nvPicPr>
        <p:blipFill>
          <a:blip r:embed="rId26"/>
          <a:stretch/>
        </p:blipFill>
        <p:spPr>
          <a:xfrm>
            <a:off x="2371680" y="4456080"/>
            <a:ext cx="1041480" cy="420840"/>
          </a:xfrm>
          <a:prstGeom prst="rect">
            <a:avLst/>
          </a:prstGeom>
          <a:ln w="0">
            <a:noFill/>
          </a:ln>
        </p:spPr>
      </p:pic>
      <p:pic>
        <p:nvPicPr>
          <p:cNvPr id="779" name="122 Rectángulo" descr=""/>
          <p:cNvPicPr/>
          <p:nvPr/>
        </p:nvPicPr>
        <p:blipFill>
          <a:blip r:embed="rId27"/>
          <a:stretch/>
        </p:blipFill>
        <p:spPr>
          <a:xfrm>
            <a:off x="7589880" y="5883120"/>
            <a:ext cx="1041480" cy="420840"/>
          </a:xfrm>
          <a:prstGeom prst="rect">
            <a:avLst/>
          </a:prstGeom>
          <a:ln w="0">
            <a:noFill/>
          </a:ln>
        </p:spPr>
      </p:pic>
      <p:pic>
        <p:nvPicPr>
          <p:cNvPr id="780" name="124 Rectángulo" descr=""/>
          <p:cNvPicPr/>
          <p:nvPr/>
        </p:nvPicPr>
        <p:blipFill>
          <a:blip r:embed="rId28"/>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1 Rectángulo" descr=""/>
          <p:cNvPicPr/>
          <p:nvPr/>
        </p:nvPicPr>
        <p:blipFill>
          <a:blip r:embed="rId1"/>
          <a:stretch/>
        </p:blipFill>
        <p:spPr>
          <a:xfrm>
            <a:off x="4248000" y="1285920"/>
            <a:ext cx="2347920" cy="536400"/>
          </a:xfrm>
          <a:prstGeom prst="rect">
            <a:avLst/>
          </a:prstGeom>
          <a:ln w="0">
            <a:noFill/>
          </a:ln>
        </p:spPr>
      </p:pic>
      <p:sp>
        <p:nvSpPr>
          <p:cNvPr id="899"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Calibri"/>
            </a:endParaRPr>
          </a:p>
        </p:txBody>
      </p:sp>
      <p:pic>
        <p:nvPicPr>
          <p:cNvPr id="900" name="3 Imagen" descr="outsourcing_advant.jpg"/>
          <p:cNvPicPr/>
          <p:nvPr/>
        </p:nvPicPr>
        <p:blipFill>
          <a:blip r:embed="rId2"/>
          <a:stretch/>
        </p:blipFill>
        <p:spPr>
          <a:xfrm>
            <a:off x="3571920" y="3786120"/>
            <a:ext cx="3429000" cy="2619360"/>
          </a:xfrm>
          <a:prstGeom prst="rect">
            <a:avLst/>
          </a:prstGeom>
          <a:ln w="0">
            <a:noFill/>
          </a:ln>
        </p:spPr>
      </p:pic>
      <p:sp>
        <p:nvSpPr>
          <p:cNvPr id="901"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2"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1 Rectángulo" descr=""/>
          <p:cNvPicPr/>
          <p:nvPr/>
        </p:nvPicPr>
        <p:blipFill>
          <a:blip r:embed="rId1"/>
          <a:stretch/>
        </p:blipFill>
        <p:spPr>
          <a:xfrm>
            <a:off x="4248000" y="1285920"/>
            <a:ext cx="2347920" cy="536400"/>
          </a:xfrm>
          <a:prstGeom prst="rect">
            <a:avLst/>
          </a:prstGeom>
          <a:ln w="0">
            <a:noFill/>
          </a:ln>
        </p:spPr>
      </p:pic>
      <p:sp>
        <p:nvSpPr>
          <p:cNvPr id="904"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5"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6"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1 Rectángulo" descr=""/>
          <p:cNvPicPr/>
          <p:nvPr/>
        </p:nvPicPr>
        <p:blipFill>
          <a:blip r:embed="rId1"/>
          <a:stretch/>
        </p:blipFill>
        <p:spPr>
          <a:xfrm>
            <a:off x="4248000" y="1285920"/>
            <a:ext cx="2347920" cy="536400"/>
          </a:xfrm>
          <a:prstGeom prst="rect">
            <a:avLst/>
          </a:prstGeom>
          <a:ln w="0">
            <a:noFill/>
          </a:ln>
        </p:spPr>
      </p:pic>
      <p:sp>
        <p:nvSpPr>
          <p:cNvPr id="908"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9"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0"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1 Rectángulo" descr=""/>
          <p:cNvPicPr/>
          <p:nvPr/>
        </p:nvPicPr>
        <p:blipFill>
          <a:blip r:embed="rId1"/>
          <a:stretch/>
        </p:blipFill>
        <p:spPr>
          <a:xfrm>
            <a:off x="4248000" y="1285920"/>
            <a:ext cx="2347920" cy="536400"/>
          </a:xfrm>
          <a:prstGeom prst="rect">
            <a:avLst/>
          </a:prstGeom>
          <a:ln w="0">
            <a:noFill/>
          </a:ln>
        </p:spPr>
      </p:pic>
      <p:sp>
        <p:nvSpPr>
          <p:cNvPr id="912"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Calibri"/>
            </a:endParaRPr>
          </a:p>
        </p:txBody>
      </p:sp>
      <p:sp>
        <p:nvSpPr>
          <p:cNvPr id="914"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Calibri"/>
            </a:endParaRPr>
          </a:p>
        </p:txBody>
      </p:sp>
      <p:sp>
        <p:nvSpPr>
          <p:cNvPr id="915" name="6 CuadroTexto"/>
          <p:cNvSpPr/>
          <p:nvPr/>
        </p:nvSpPr>
        <p:spPr>
          <a:xfrm>
            <a:off x="2928960" y="500076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5T18:10:08Z</dcterms:modified>
  <cp:revision>120</cp:revision>
  <dc:subject/>
  <dc:title>Diapositiva 1</dc:title>
</cp:coreProperties>
</file>